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0B2-B1E9-4ABE-A6A3-12C77A9D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74B-EBE9-4BED-87CE-1AC33F06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0B05-EFE7-4753-A7E0-7CCEC91C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767-4E7C-4DDB-92BE-8E9CC489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6ED-61A8-48CD-98F1-9C6D136E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4B8-B3B6-43EC-9D3C-69ACFE63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C4D6-387D-4A91-95D5-43CFD81E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D2A-4C1F-4D3D-8320-78115274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ED41-54F4-4790-B2E7-43D9B1D8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A04-23BE-4798-B64C-36072BB9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2FB-686B-4F2E-9F2B-E37624CE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4CF-882F-4D3E-84DD-AFC3AB55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C35C-903B-4DE3-957E-A65BF1C15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58200" y="-344340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oncept Map :The Roots and Branches of Rock and 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495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6:45:50Z</dcterms:created>
  <dc:creator>PACS</dc:creator>
  <dc:description/>
  <dc:language>en-US</dc:language>
  <cp:lastModifiedBy>PACS</cp:lastModifiedBy>
  <dcterms:modified xsi:type="dcterms:W3CDTF">2010-03-19T16:56:25Z</dcterms:modified>
  <cp:revision>2</cp:revision>
  <dc:subject/>
  <dc:title>Slide 1</dc:title>
</cp:coreProperties>
</file>